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226321"/>
        <c:axId val="89243959"/>
      </c:barChart>
      <c:catAx>
        <c:axId val="112263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43959"/>
        <c:crosses val="autoZero"/>
        <c:auto val="1"/>
        <c:lblAlgn val="ctr"/>
        <c:lblOffset val="100"/>
        <c:noMultiLvlLbl val="0"/>
      </c:catAx>
      <c:valAx>
        <c:axId val="892439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263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C789-E1C0-497C-8913-363B9A8A3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E9C1-10F3-4E0E-B8AF-5360B27F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F528-DCE2-4CA6-8499-0C26BD82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F3CB-29F5-456D-8D43-DBF8A26E4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9BA0-E284-4B2A-8A67-C575003E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F672-0851-4E14-BA3A-EBFD9F8F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4665-22A9-4FF9-9085-93E85D53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6FA5-1BFB-4CC3-9324-FCF3CEDF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33D4-0F7C-4665-BD3A-00F560FC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147D-E0C0-461E-A103-03BD2F0D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5C7A-3209-48D8-8B04-11A2D313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FAE7-D532-4077-A766-C7009F25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DB3C9-E76F-46D2-A55A-BAB800FAB5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