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8432"/>
        <c:axId val="70304734"/>
      </c:barChart>
      <c:catAx>
        <c:axId val="7448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04734"/>
        <c:crosses val="autoZero"/>
        <c:auto val="1"/>
        <c:lblAlgn val="ctr"/>
        <c:lblOffset val="100"/>
        <c:noMultiLvlLbl val="0"/>
      </c:catAx>
      <c:valAx>
        <c:axId val="703047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8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DA1-E0C0-4C8C-A6DE-568588BB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5E4-F732-40CA-A79E-C43033B0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906-B858-4C8B-86C0-2CACA043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BAE-5224-4640-A03E-D0C41A3C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B6E-BEF7-487E-8A10-B8709AE5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70F-3F35-4B92-BD64-2D65DBEE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529-03BA-433D-90FA-86240CA1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118-246F-42E3-8A1B-7104D750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7C4-2491-4B48-8D45-E884624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8C8-8D0C-4C4E-996E-3BB734CD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4FF-D739-4E21-A3E4-632EC588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53A-0E8A-4544-B9B5-C153DCAF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CAC41-F10C-4E53-A25F-A4D0A94571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