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52698"/>
        <c:axId val="95683424"/>
      </c:barChart>
      <c:catAx>
        <c:axId val="21752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83424"/>
        <c:crosses val="autoZero"/>
        <c:auto val="1"/>
        <c:lblAlgn val="ctr"/>
        <c:lblOffset val="100"/>
        <c:noMultiLvlLbl val="0"/>
      </c:catAx>
      <c:valAx>
        <c:axId val="95683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52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1F7-DF60-4E4D-B36E-257CA172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D00-FB0E-463A-AFF9-26829F36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0E6-B98E-4CB8-805B-A33D8045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32B-1BB2-499F-90D7-44253809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CE8-0CB6-46A6-A65D-2FFD957B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7CE-7E35-434B-AFB6-C4827072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8A4-B53C-4294-89CC-9A95105B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85C-9DB6-4D08-A5D4-39A5AF38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624-81BB-477C-82A3-6EC10B5B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932-ECD8-45C3-A6DE-79A56D65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228-558F-4A66-9242-E5AB9EA8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A51-C2C6-4AFA-BF68-5884813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3131F-49CB-472F-8790-F7A4B8A351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