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38712"/>
        <c:axId val="67026199"/>
      </c:barChart>
      <c:catAx>
        <c:axId val="69938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26199"/>
        <c:crosses val="autoZero"/>
        <c:auto val="1"/>
        <c:lblAlgn val="ctr"/>
        <c:lblOffset val="100"/>
        <c:noMultiLvlLbl val="0"/>
      </c:catAx>
      <c:valAx>
        <c:axId val="67026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8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443-F02A-47F8-BF35-B4D84221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BA4-2C63-4984-B247-2C191770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481-92CB-4BAC-93CD-C284C1B6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A29-D605-4C83-B7CE-45F68B43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D12-6484-436F-9CB1-9DB20A93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867-6E26-482C-9FF1-7C82B80F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5F6-A352-4C6C-A936-9F9AFD09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AD9-7C60-41F1-A8BC-66CC0002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23C-7929-4A69-9B2F-707BCBE5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E98-D8CE-4ACB-8A39-24722653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C9D-7F4F-4ECF-845C-31F77584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6E5-1050-4780-A1F0-790C28E0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77263-F481-4726-8F7C-C546252347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