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144239"/>
        <c:axId val="23313031"/>
      </c:barChart>
      <c:catAx>
        <c:axId val="391442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313031"/>
        <c:crosses val="autoZero"/>
        <c:auto val="1"/>
        <c:lblAlgn val="ctr"/>
        <c:lblOffset val="100"/>
        <c:noMultiLvlLbl val="0"/>
      </c:catAx>
      <c:valAx>
        <c:axId val="233130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1442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69B9-59FE-4B0E-A752-E2B0E4185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8CAC-5BD7-4104-ADB8-AABF04841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D272-D4C2-4F7B-A623-2347FC106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7C0D-DC9B-47AE-9A22-FCF73FA0A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D396-CC1F-4D75-8325-78090B035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CF1C-9D82-4FFB-9636-0869610F9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CB3F-B38B-420A-B75E-06A9BD448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AA2C-CDE0-44AC-9E9E-D57CE366C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6BA4-F25B-4514-B086-8624E4963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0356-89C9-4D5F-B0ED-75406043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2C14-D491-498A-A67C-0F7E994F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DF4B-C842-450D-876C-B401960C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62C424-B012-453A-BB7A-22B88C5FD67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