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32452"/>
        <c:axId val="12179348"/>
      </c:barChart>
      <c:catAx>
        <c:axId val="20832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9348"/>
        <c:crosses val="autoZero"/>
        <c:auto val="1"/>
        <c:lblAlgn val="ctr"/>
        <c:lblOffset val="100"/>
        <c:noMultiLvlLbl val="0"/>
      </c:catAx>
      <c:valAx>
        <c:axId val="12179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32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0AA-0EE8-459A-972A-FEB166DF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ED5-69B5-4E62-B361-A734E20C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BF8-FE2D-45B8-BE27-B7B2F2C1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95D-7595-4B4F-B60E-E7B89E8A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496-1C10-4CD3-9819-88322F31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C49-DBB4-49C0-9B24-55B3C9C8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FD0-A49F-445B-91EC-A73094C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913-D4B4-4A22-B921-8486CD1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4BB-6814-4C5C-A5EE-F8FD73D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B99-3EB8-4FD8-B441-042C280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D31-736C-47EB-941A-04B1FA95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AF8-81FE-4502-88F8-9CB6AAE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93193-F899-4305-ACBF-10F6704327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