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2976"/>
        <c:axId val="78565270"/>
      </c:barChart>
      <c:catAx>
        <c:axId val="6482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65270"/>
        <c:crosses val="autoZero"/>
        <c:auto val="1"/>
        <c:lblAlgn val="ctr"/>
        <c:lblOffset val="100"/>
        <c:noMultiLvlLbl val="0"/>
      </c:catAx>
      <c:valAx>
        <c:axId val="78565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2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F2C-1047-49A7-B382-0F50F9DA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985-1AFF-4864-9029-424269DE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FB2-09CD-4D2F-9023-1F894F0A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9E8-5E6E-429A-9E71-2768DBDF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AA6-7EBB-4331-B11F-96CD131B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BF2-8D44-4099-B02B-E160C3F6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F33-874C-4191-80FD-9C47E6AF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8E7-4528-49D7-84D6-CCF6E63E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753-DA7F-493A-9B3C-7D8A41AC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CB5-E47E-45C1-9ACD-FA0B7CE1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4B0-CE77-425C-80FA-C1D9A43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7DA-B24E-415F-930F-0F43200B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F4CF6-6979-4CFC-B2D1-DE03DCB9BC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